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7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8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9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0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6724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307520" indent="-427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747440" indent="-427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2187360" indent="-4273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2187360" indent="-427320">
              <a:spcBef>
                <a:spcPts val="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2187360" indent="-427320">
              <a:spcBef>
                <a:spcPts val="901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47400" y="7247880"/>
            <a:ext cx="91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PROJECT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"/>
          <p:cNvSpPr/>
          <p:nvPr/>
        </p:nvSpPr>
        <p:spPr>
          <a:xfrm>
            <a:off x="345600" y="8962200"/>
            <a:ext cx="56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c68"/>
                </a:solidFill>
                <a:latin typeface="Helvetica Neue Bold Condensed"/>
                <a:ea typeface="Helvetica Neue Bold Condensed"/>
              </a:rPr>
              <a:t>DA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"/>
          <p:cNvSpPr/>
          <p:nvPr/>
        </p:nvSpPr>
        <p:spPr>
          <a:xfrm>
            <a:off x="1364400" y="8957160"/>
            <a:ext cx="1468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  <a:ea typeface="Helvetica Neue Bold Condensed"/>
              </a:rPr>
              <a:t>3/18/09</a:t>
            </a:r>
            <a:endParaRPr b="0" lang="en-US" sz="3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rcRect l="0" t="8853" r="0" b="8853"/>
          <a:stretch/>
        </p:blipFill>
        <p:spPr>
          <a:xfrm>
            <a:off x="368280" y="368280"/>
            <a:ext cx="12268080" cy="673092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RICH DAD, POOR DAD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HAPTER 6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41120" y="1549080"/>
            <a:ext cx="10922040" cy="532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Q. Why Develop a Financial IQ?</a:t>
            </a:r>
            <a:r>
              <a:rPr b="0" lang="en-US" sz="7800" spc="-1" strike="noStrike">
                <a:solidFill>
                  <a:srgbClr val="4a7594"/>
                </a:solidFill>
                <a:latin typeface="Helvetica Neue Light"/>
                <a:ea typeface="ヒラギノ角ゴ ProN W3"/>
              </a:rPr>
              <a:t>	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. Simply to have more options.</a:t>
            </a:r>
            <a:br>
              <a:rPr sz="7800"/>
            </a:b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  <a:p>
            <a:pPr marL="407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Overview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ny of us are born with talent, but possess a degree of self doubt that is limiting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fter finishing education, much of success is dependent on factor outside college grad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Factors of Succes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fter education, ‘guts’, or ability to take risk determines future more than education and grade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lf doubt and lack of courage undermine succes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veloping a Financial IQ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fferent determinants of wealth over tim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nd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dustr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formation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Being Financially Aware</a:t>
            </a:r>
            <a:r>
              <a:rPr b="0" lang="en-US" sz="7800" spc="-1" strike="noStrike">
                <a:solidFill>
                  <a:srgbClr val="4a7594"/>
                </a:solidFill>
                <a:latin typeface="Helvetica Neue Light"/>
                <a:ea typeface="ヒラギノ角ゴ ProN W3"/>
              </a:rPr>
              <a:t>	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ame called Cashflow shows and develops financial IQ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oman in text plays and fails at game, later reflects and reforms finanically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oman’s husband hides money from her, she is unaware until after the divorc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